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464E-CA3E-4676-9056-B6C129D9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E2C-6B72-42BF-8957-B89A426B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0F8-8FD9-4070-B9BD-7E7D7CB8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E8B-1FCF-4056-B84D-4927ADF3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530-9B38-49E2-BD66-4C355920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3AC-31BA-42D0-AAD4-A13B657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218-DC7C-4985-8F52-ABC9C2AD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EDF-58F5-4378-897A-106B0504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34E-4664-43D1-9DBC-0C1D4160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6B2-07F0-45A1-8119-8E9CA6A0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51C-A94F-4C2E-A10D-8D39868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821-0E82-4FDC-A072-7F2CD77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1E4-972B-42C1-A8DB-B53D73A9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F8FC-4DFF-4547-ACD7-12BD5B7A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instructor’s role requires a paradigm shift in perception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structional time and sp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virtual management tech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ways of engaging students through virtual commun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sed on results of a systematic literature revie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evaluation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support and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(3), p. 145-1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ut retrieved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more to do with whether this is a good way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eac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la Specketer, Principal of Minnesota Virtual Academy (full-time virtual started in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1079280"/>
            <a:ext cx="647676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are online schools here to stay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believe it - get over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 you see as the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1905120" cy="234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42703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diverse needs and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– truly customer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, engagement,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use of tools, technologies,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education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3:23:20Z</dcterms:created>
  <dc:creator>Kisling</dc:creator>
  <dc:description/>
  <dc:language>en-US</dc:language>
  <cp:lastModifiedBy>Kisling</cp:lastModifiedBy>
  <dcterms:modified xsi:type="dcterms:W3CDTF">2008-10-17T02:38:43Z</dcterms:modified>
  <cp:revision>40</cp:revision>
  <dc:subject/>
  <dc:title>Slide 1</dc:title>
</cp:coreProperties>
</file>